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68E8-3BDC-46DC-A5E0-D238AEEF7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2F13-0862-4D1F-9C2E-8FAA5890E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80CF-1FA7-405C-8097-F4A737C70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4E4C-5341-4F9B-9CB6-F24C8CEC0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834B-58CE-4817-B6E5-DFC5C2E73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5B8B-1FBF-41CD-B75E-2A582C350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       Slide </a:t>
            </a:r>
            <a:fld id="{9401C5D1-2BBF-4D95-8F82-9B90C85ACB5A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2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A8AB89D7-A027-41C4-9FE1-653395B1340A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3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54ED3E0E-3083-4F19-B8EA-75E7B9D60623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4"/>
          </p:nvPr>
        </p:nvSpPr>
        <p:spPr>
          <a:xfrm>
            <a:off x="668160" y="6244920"/>
            <a:ext cx="8018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37F25256-1454-474D-83C4-D86CEF7B7E4F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5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7A7FB090-D7C4-4CBE-A30A-186B0073B535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6"/>
          </p:nvPr>
        </p:nvSpPr>
        <p:spPr>
          <a:xfrm>
            <a:off x="696960" y="6244920"/>
            <a:ext cx="798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8BE616FA-566D-4439-A918-0253941A9200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7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5452F3DD-9C72-4059-8FED-72044F53A502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8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CE06EEF5-7EA2-4A92-92EB-9EEC6C15D9D8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89000" y="6008400"/>
            <a:ext cx="876600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12: Desktop Publishing --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esson 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5032440" y="6566040"/>
            <a:ext cx="4111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, 2006 South-Western, Cengage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Desktop Publishing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ktop Publishing is using word processing skills in additio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and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s that include: wordart, shapes, text boxes, and 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cs:  features used to enhance word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Art:  decorativ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78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6409F4D8-CFD9-440D-ADCD-8866540DB64B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Graphic Features in </a:t>
            </a:r>
            <a:r>
              <a:rPr b="0" i="1" lang="en-US" sz="4000" spc="-1" strike="noStrike">
                <a:solidFill>
                  <a:srgbClr val="c23191"/>
                </a:solidFill>
                <a:latin typeface="Arial"/>
              </a:rPr>
              <a:t>Word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ap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ert rectangles, circles, lines, curves, stars, banners, and smiley f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ert ready-made pictures, drawings, and sou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xt box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ert text and graphics into           preformatted text box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d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ert decorative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78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598C013A-F2A0-4314-A2AF-C536AF9CA9DC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5994360" y="2598840"/>
            <a:ext cx="668520" cy="449280"/>
          </a:xfrm>
          <a:prstGeom prst="rect">
            <a:avLst/>
          </a:prstGeom>
          <a:solidFill>
            <a:srgbClr val="8f80ba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5-Point Star 5"/>
          <p:cNvSpPr/>
          <p:nvPr/>
        </p:nvSpPr>
        <p:spPr>
          <a:xfrm>
            <a:off x="8026560" y="227808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ight Arrow 6"/>
          <p:cNvSpPr/>
          <p:nvPr/>
        </p:nvSpPr>
        <p:spPr>
          <a:xfrm>
            <a:off x="7053120" y="2511360"/>
            <a:ext cx="567000" cy="5508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5" descr="C:\Program Files\Microsoft Office\MEDIA\CAGCAT10\j0234657.wmf"/>
          <p:cNvPicPr/>
          <p:nvPr/>
        </p:nvPicPr>
        <p:blipFill>
          <a:blip r:embed="rId1"/>
          <a:stretch/>
        </p:blipFill>
        <p:spPr>
          <a:xfrm>
            <a:off x="7707240" y="3581280"/>
            <a:ext cx="1190520" cy="11588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"/>
          <p:cNvPicPr/>
          <p:nvPr/>
        </p:nvPicPr>
        <p:blipFill>
          <a:blip r:embed="rId2"/>
          <a:stretch/>
        </p:blipFill>
        <p:spPr>
          <a:xfrm>
            <a:off x="6027840" y="4392720"/>
            <a:ext cx="1623960" cy="10062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"/>
          <p:cNvPicPr/>
          <p:nvPr/>
        </p:nvPicPr>
        <p:blipFill>
          <a:blip r:embed="rId3"/>
          <a:stretch/>
        </p:blipFill>
        <p:spPr>
          <a:xfrm>
            <a:off x="5305320" y="5410080"/>
            <a:ext cx="166716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reate WordAr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12960" y="1671120"/>
            <a:ext cx="7696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Tab, Word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ing Tools Format Tab, WordArt Styles Section, Select Text Effects/Transform for sh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ariety of formatting features are also found on Drawing Tools Format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78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037287E9-0FC5-4E2F-861D-F4F73C3B7C0E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7" descr=""/>
          <p:cNvPicPr/>
          <p:nvPr/>
        </p:nvPicPr>
        <p:blipFill>
          <a:blip r:embed="rId1"/>
          <a:stretch/>
        </p:blipFill>
        <p:spPr>
          <a:xfrm>
            <a:off x="1336680" y="4861080"/>
            <a:ext cx="6848640" cy="1380960"/>
          </a:xfrm>
          <a:prstGeom prst="rect">
            <a:avLst/>
          </a:prstGeom>
          <a:ln w="0">
            <a:noFill/>
          </a:ln>
        </p:spPr>
      </p:pic>
      <p:sp>
        <p:nvSpPr>
          <p:cNvPr id="394" name="Oval 1"/>
          <p:cNvSpPr/>
          <p:nvPr/>
        </p:nvSpPr>
        <p:spPr>
          <a:xfrm>
            <a:off x="7531200" y="5711760"/>
            <a:ext cx="682560" cy="246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Format WordAr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90720" y="1599840"/>
            <a:ext cx="769608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Art Tools Format ta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Effects: shadow, reflection, glow, soft edges, bevel, 3-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Effects:  shadow, glow, reflection, bevel, 3-D, trans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78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F4DA1F05-D334-4944-9893-31C28C3321CA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8" descr=""/>
          <p:cNvPicPr/>
          <p:nvPr/>
        </p:nvPicPr>
        <p:blipFill>
          <a:blip r:embed="rId1"/>
          <a:stretch/>
        </p:blipFill>
        <p:spPr>
          <a:xfrm>
            <a:off x="160200" y="5159520"/>
            <a:ext cx="8853480" cy="7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00:31:47Z</dcterms:created>
  <dc:creator>Jean Bissell</dc:creator>
  <dc:description>Copyright 2006 South-Western/Thomson</dc:description>
  <dc:language>en-US</dc:language>
  <cp:lastModifiedBy>Lenessa Keehn</cp:lastModifiedBy>
  <dcterms:modified xsi:type="dcterms:W3CDTF">2011-02-22T16:48:17Z</dcterms:modified>
  <cp:revision>31</cp:revision>
  <dc:subject/>
  <dc:title>Slide 1</dc:title>
</cp:coreProperties>
</file>